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FFED-3ED0-4D11-A3D5-DA7DB1E1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3298-8E59-45F5-83DF-371B1689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5AB9-D059-4B58-88B7-58145F9F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4DDF-3A11-4A13-9C45-BAEA8FD7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B4E-18B3-479B-B2B7-9B342354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69DE-5D8B-4FD2-8807-E5E4A98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756-847C-4679-9742-62F95972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0DD-775D-420D-8EAE-5044F344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990-8661-4850-9E68-5F0B138D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5135-00E3-4EE6-9BA7-E45E8E4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8B1-7987-4F26-BD11-46CD4EF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55B8-7C7E-461B-A97A-A7DBDD3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43EF-857A-4930-97D1-DEC0A30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A1A6-3290-42FB-B2AF-1BB826D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D24-DC11-452F-ACBD-03E42553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9D87-2D14-4E0B-940E-F293A39E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9431-B4E1-4F35-8B4E-B2A30BA5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32D8-D4C9-432D-9FA9-4C22C33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67DD-71DE-48BC-AE77-07C1ED91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D863-8CF1-4F3F-A12E-02A8A149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EA95-C31F-4CA8-BAC3-BD335A80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46C3-5263-42F4-800E-EE904E1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6354-59B5-483B-ACC5-142FD62E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9A81-5DC5-49B5-92B5-C0DEB70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DC59-FB1B-4BA8-B98C-9D6201A36B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3E9-3C9E-45E6-97CF-377AE1954F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bs.org/wgbh/amex/pill/peopleevents/p_m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ow accurate was the stereo type of women in the 1950’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Jessica Gagn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fought for equality in work places and in the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d their abilities to work along side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eotype applied to some women but a large majority of women were not at home being a “good wife.” They were out in the world fighting for their right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i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umann, Caryn E. "National Organization for Women." 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ostwar America. Sharpe Online Refere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(2010): n. pag. Web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 May. 2010  &lt;http://www.sharpe-online.com/SOLR/a/show-content/fullarticle/6/book006-PART1-article381&gt;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pbs.org/wgbh/amex/pill/peopleevents/p_mr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ker, Jenny. "Women's Studies." 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ostwar America. Sharpe Online Referen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(2010): n. pag. Web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Jun. 2010  &lt;http://www.sharpe-online.com/SOLR/a/show-content/fullarticle/6/book006-PART1-article588&gt;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50’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816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wight D. Eisenhower was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 ‘n’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Rights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949400" cy="21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256" t="5815" r="8513" b="6964"/>
          <a:stretch/>
        </p:blipFill>
        <p:spPr>
          <a:xfrm>
            <a:off x="2590920" y="419112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8195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ereotyp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 stay at home w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ks, cleans, takes care of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n’t have sex before marri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 married as soon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obed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o love the domestic homemaker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29320" y="1219320"/>
            <a:ext cx="223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472464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tereotype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lots of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ho worked when they could afford not to were considered selfish for not putting all energy into the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erican Media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tere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rayed women as fragile and very 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s propagan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 Love Luc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wed how women were supposed to look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merican School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tere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ught home making skills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hot iron should be used when press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silk sli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woolen swea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linen skir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 crepe 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went to college to get M.R.S. De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t for career purposes, for hom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eing taken serious as workers during WW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in factories and worked in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uilt parts, flew planes, and worked as nurs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300,000 women worked in aircraft industry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en came back from war some women stopped working but many tried to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9%of women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% were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gregating Wom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of trying to force women back to hom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hara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Organization for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the stereotype and its limits through th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ed to pass reforms for equality in work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it would make working easier for women and shine light on true 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a survey of workers in fac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of 146 executives revealed that the productivity levels of women workers was equal to or greater than those of male workers engaged in similar work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9:54:03Z</dcterms:created>
  <dc:creator>Mildred Thomas</dc:creator>
  <dc:description/>
  <dc:language>en-US</dc:language>
  <cp:lastModifiedBy>11348</cp:lastModifiedBy>
  <dcterms:modified xsi:type="dcterms:W3CDTF">2010-06-10T12:33:06Z</dcterms:modified>
  <cp:revision>4</cp:revision>
  <dc:subject/>
  <dc:title>How accurate was the stereo type of women in the 1950’s?</dc:title>
</cp:coreProperties>
</file>